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F08D-F0E9-462D-BEFD-E670D95DC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62914-6186-4747-93F1-2E6F0E3A0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4EABC2-1DAB-4403-A15D-891EE431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EB196-CA70-4368-9FB3-E6675CA6B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68DE37-F279-428E-A101-2109FE75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785B2-972A-424C-A028-FC814C7C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24935-D155-494D-96B7-B365211B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B0A587-0AF4-469C-8C90-971CA93E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25554F-9474-49F1-BE83-D5EA4D45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C90931-BD60-4D9A-A45F-7927ED96C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C71969-41F3-44B9-9C8A-6A6724B25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D91DCD-A724-43CD-8FDA-0756472BA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A002-A9AC-4CEA-A2C5-DAEF106B5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EE5BBC-F8A0-4E48-BAC5-20EEBF5E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7230AF-993B-4E27-9DD5-3B21CC8C8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FD40DA-C94E-4210-90DD-6DB4EEE07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A142C2-22FA-4033-85AA-BA5456306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ABE75-317D-46D0-9951-A4EE472CE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1FDE5-BD3D-49D2-8969-16D23EA35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9BF78E-A916-4623-8408-AA15B5F1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EF5D0-A3FB-44DA-B1DA-CA2E8AEB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2D5E3F-2C55-4CA1-BFBB-B1B6437D0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780F71-E988-444E-B1F2-9D5EBE0A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E24CB-9077-45C2-8BDF-4B7C272930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074FA6-FF2C-454E-88F2-A70955FA5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E73F3-0BAC-46D3-B89F-BD146F77D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FCBCC7-D5FA-4BA9-9518-F635383FC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FEB336-C8BA-4D98-AB22-69D0A03F7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329E0A-38D0-4D94-8122-F18D9E19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B8E128-4828-47A6-B564-38BD35831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4106FA-88AD-4DE9-873E-8B6E4143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E11810-EEBF-4F40-BBE4-2F157D2A8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BD781C-7F85-4EA5-A06D-993412D6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7EFFF9-4A5E-44DD-BEA8-9BF80156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CD350-FB82-4A02-AE7A-3FE4FCC86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A812E4-877B-4574-89A5-BB7E4F4ED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52FA13-BF22-4882-9342-1DD2D5619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600F7-86ED-42AA-868D-DA8BE76C9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7AFD1-D417-43D3-ABF0-9BB013579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918970-CCFC-47EA-92F7-DC4D0A42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D824F4-52B0-469B-9205-B7F9DCFE7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634FD6C-A080-4E52-9EC7-85D3913AF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AE858C-0FAB-4B4B-8BF2-B33C44AD9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722829-97A7-4803-A459-1D2C128A9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F9E44-C4F3-485F-B32A-4ED7AE8E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BC24-CE17-491B-88F7-4821FCB33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A8E2A6-0856-4617-B032-60B3CA1A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DC6688-3B1A-4510-8005-A0D61991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547D3D-25EE-4EAE-8AFB-441A1827E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5E9FB4-3C4E-4070-9427-342EC463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21FCF9-8CC1-497D-95CF-85FAA31F2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3F5A3B-B6A7-43F5-A707-4E44E3301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EB176E-7391-46D2-A4A1-C84BD219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C4A4F-7E33-4998-9891-39C4F786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44E592-0BD9-4A94-9304-B23C6EC13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6DD741-B9E8-4D92-AE70-A224713D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D3F5-0A35-4DD5-BC42-27673971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6340AB-AB36-4331-8890-9259A778F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DFB5FB-23AF-4C1C-B291-34ED9F7A6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8162E6-3ACD-4984-AC45-43ABCFB7A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026DD-B581-4552-8E44-1707A4003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48C681-D1E1-46B5-9849-B84D7302B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48F337-ED61-4FA7-805E-F36EDA2A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CEB7C6-5EEF-44E8-A09D-61E115C06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BA024F-C11F-404C-86F4-604FD7C55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1325C1-EE0A-4271-B08C-81CA8AEE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E3589D-8389-4157-A1C0-E683EC72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9759-E87F-4D08-A487-B2A52BB4D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AE7D2A-F08C-4277-813D-33B565E2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1695BD-0192-44FF-AE28-3A814140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BFE481-328F-43DB-BD45-12CF711DE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CA97EBB-C905-4CBD-A127-2502DC4A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6DFD16-7BC7-4F17-90B2-E880F5BF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BE15C7-932C-4C75-9BCC-4EF71CE8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187E1A-2A65-4337-82AF-77B8AC025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BD3E3D-B0F0-4B45-9788-FB4F6E8DF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843535-83E0-4E25-81AD-B17A2FB21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99F13F-6C11-434B-8DD5-64E852D17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562FF-4DB7-4AD1-AA29-FF4B359F2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F365AB4-241D-4B17-B5ED-0E97B7DA3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352C0D-B121-426A-93BF-EC59DF924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4CC977-752E-496B-ACCB-DD5BD3B2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EB39C5-7346-42E8-A625-8CAEDC2A9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C8C16-B378-49B9-80C1-2233F2118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399F8C-FC12-4C09-AE6D-46914E9D5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00D237-C8FC-4BC1-A0A3-6526BA71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4B9DEA-F18D-40FB-9D67-B4BD1455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5E8F5-CEA2-44D6-8A40-EAE82B25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C1C5AC9-884B-4AF5-8DB3-74CDBE82E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30015-B4E1-4E63-9083-1249363A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1D61EF-D0DC-4B41-9362-F34FA01F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AB85B7-AF5E-42BA-AD8B-11A574A4F6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123B16-A0B2-469E-8F66-1C3BFB45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3C3BEFF-4195-4F7D-B309-3D9436C2B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2F95F0-F1CB-4371-97D0-D69F784B2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90941-B1A4-4CA6-8B24-E73BD1A9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094111-4631-475D-A121-4C1E40C57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C6E37C-7B45-4C29-A9FF-C5087D96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1C9CD9-D2AB-49AE-8958-B70E4C61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C8E04FF-AB55-47CF-87C2-62B3D6A6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9F94-D68F-4CF7-8C2F-4368883E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B28E87-A960-4144-828D-DEE567C64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EFC818-4F72-432A-AD5C-1B9BE4D9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4C7A25-EABF-4F6C-9C62-847E510E8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F53F4D-DD54-42BE-B954-F3F51DE9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BA9C3A3-41B1-4A83-9BD3-BBC0030F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696AA7-DA2B-430A-8BBF-A32531DD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8ACDD94-2D04-487A-A27C-EFB89430C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46F00B-0AF8-485D-8989-87093729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4EF12B-CB10-400C-AC4E-6B6D42AEC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0B34B9-5A34-47A6-802E-3F746E8D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D4B0-04A6-42A1-8B1A-0CF14028B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D660A-04B7-468C-A1EB-A72ED70F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189C46-9428-4B6A-9C89-4AE69689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836E8E-9782-4197-995A-6B6153CC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24737-89CF-4FF4-A7A6-1A8A66BEF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1997E-A8B0-4ECA-AF4B-62CB2FA81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BEA249-9B46-4954-A52F-10F119B79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4E31194-1415-4A3A-B839-3854BFAA4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D8138F-1C1A-4018-8DA0-CB34137B0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43D579-62C3-4A76-8714-31C2F9CB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C348E2-1F06-42C8-BCE0-AA2EB9EDF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C5C755-35A2-452E-9EF4-6FB8ECE2A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17C81-4229-4CD5-917C-A71ADC4B5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F4D70F9-7446-4F09-9A05-7E17990F8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7BA38-5DAF-44C5-B439-4178411A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40F80D-0CA8-43E7-A7C5-F6829881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9EC534-0D6C-4C49-A4F4-DE6B9980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8127E2-892B-441F-98B0-213740C8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7105A7-EE9E-40FA-A192-432F3954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AFFAD0D-F760-44A4-935C-9CAF1FA87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76E58D5-1FEA-4E3F-B670-3D0A00E4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AD04C4-1032-4CE4-A5A4-9BCDB2115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A88F3E-EECE-49AC-B4B2-C0A21C195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5C9E-67ED-4713-B493-5E4DA2E24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AA6778-ED65-4CFB-907E-0E32A4A0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F937711-1759-44C1-81E6-466A5B87D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E288C0-0D1F-4E10-B1C7-4769CF74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DC6D5-40F8-4AAC-98FD-9C226A33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AA635-B115-43DE-820D-3BEA09294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1B6C18-F2DC-45AE-B6DB-2F340430A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E9C69C-DD75-4985-BFA7-BC24EF536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8813DE4-9C42-4B10-813A-6BED04F2D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D1DE35-267C-4E21-A36B-7024A0003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D6A3EB-A470-430E-A9AF-2D487D06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BBA77-63F5-4F58-8A38-D0C170A0A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ABE092-8EF2-484A-82C7-B87C1571F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336C68-B844-4CAC-B96C-3F90CE2C0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DD2329-E09A-4059-B1C9-B2809DC6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779B92-0233-4655-9B68-ABAD2A94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E71B689-F718-41D8-944E-2D7FE3D76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0217934-17BE-4671-A681-F4AC3EC36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77B639-FA40-4CE4-A84F-7F397ABB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AAEFDA-5A2E-49E4-BE89-DBB44FBB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699126-2FBF-4ACE-881D-7C0D5789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C03CE2B-F33C-4FAB-BF96-CA33A6218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7F922-FFDE-40FD-B35B-FB922090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0B4484-F61B-4FF8-85C4-41AECF0C1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0AD088-125B-4AB8-AE5A-3677BE69A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AD7AA9-E881-4422-901B-BD6EFE009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B4C5D8-EFA2-4E3B-8427-6FD05C6D9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8A6DC4-E57C-4F20-8BD1-8FBE89613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762B6C-A8F5-417D-940D-891B7639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CDF896-AD84-48CA-A0FD-6A92B822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3811B5C-D6C4-4B39-9D61-888AEC06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303D7C-6C5C-41BD-8B9E-848916AA7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8E6CE5-D245-4F67-8568-896B7616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BEB32B-2656-4766-97CD-D5606E43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47B19ED-4541-4A85-B532-10CEB9507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FCE7F47-FFF2-4D86-A781-BC02FEC3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E97735-9099-4591-AA2B-8177F452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CEC35-ACB6-46E6-8955-F54AC7F14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2E09E-3BEF-465E-8B00-D45E8ED2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C4BF4-3BCB-47A4-9CF6-D194314E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CD358-AC19-4DDE-932C-53F8A5DFF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50E1-B2DF-4F6A-9ED9-A2AC95C9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CEFB5-22F2-4A7C-AFDC-81C7E5502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E2A27-9DFE-441B-B226-6A212DB9C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32F082-C12C-46D6-AFA9-FA9319B2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BBC452-0259-4E70-B18E-1BDE536AC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73BA7F-82FE-4032-920C-7BDE6697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C014-A9CD-4225-B485-FC88A85FB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1B176-AA4E-4D04-8093-F88855FF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AF240-568C-434D-9C24-B82B191C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2079B-7274-46F8-9488-DD9D7872F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784165-E6F2-45E6-AA05-27222226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155F-9B5D-437A-B7B2-D5FA1B98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FEE8C1-155E-49C8-85CC-31F73F2D0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4E7F7C-E4E1-4FD9-9D20-299703B83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CF1C6C-1DB3-4704-91F8-FA96EED10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00605-8B04-4D85-95FA-BD90D2D5F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EE7E4-9A98-414C-870D-B38A29AD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58CCD8-39BE-4B0A-81DD-AAD400D0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5B3C0C-B0F3-4879-8F7C-60D2DE301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DD787-4A6F-45AE-A5F8-AF4EF6E3B9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BD7C73-EA8D-4959-862E-7E73CDE5B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58A3F5-846D-408F-8401-E213E4F2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D64-E66C-480E-8375-FF878E72A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92671D-FBAE-4351-8EA1-A3EE0617E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72C74-99B4-48DF-97C3-EA4C43CBC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C2AA65-39E4-4393-AEE3-370A9A5C1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C55A67-037C-4483-87CC-5B2E7C73B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C390E8-7117-48E3-AE5B-34CD5E450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AE76E-9BC0-4A03-98CE-1331DD71C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BC038-7FA3-43CC-93BF-E5241B0F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0C1B8E-452D-470F-AA8B-66429603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3BFA71-D159-483F-811B-E2A9EB245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97A41-BFE1-4BA7-8C3B-41009CBF1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DEC9-D0D6-44D4-93ED-905352E8B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676D-0BE3-4371-A272-45A272A69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75D954-CD66-4538-AF97-C45FB7479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2FDD4A-6543-4106-825F-662E2307C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8032A-DAAB-4C73-9534-4EE706DF7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6CBA9-D1D6-41DF-BA97-1F5D4B44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2FAD1D-5539-4227-8CD6-62B8651B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60FF7-1AAF-4CB9-BB01-97581D56A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0B345B-1999-4D28-AEF1-8432683D3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117AC7-F11B-46CE-9352-F938F9FAB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3BC3AE-2CD2-45C7-9779-48B213DD5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26D9-CA59-4BD3-A401-50C63B28A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6BFCD5-8DB2-4918-9DA2-170524ADF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19E25D-10D0-4DA1-A078-0FDAC8AE37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59F03B-2926-426C-93A4-27C8528B5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0D0C03-0BAD-4F94-A237-DD9249A17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94AD5-1E0C-42EF-9CB8-CD8FC4DD4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B34C07-CCDD-458F-89ED-CFA433E4B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2C8B64-C862-462D-B531-B831440E2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8ED33-86D0-4F43-A72B-A5AD3EF7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6BDFFA-09AC-4A64-B66C-B3DEDCEE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898B0F-C552-4C5A-8C10-950281C70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62A-064B-4B6D-85DB-B77291458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DEA284-EBA9-4397-82B7-BDA7E16C7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89AE6-CC13-4F83-BEAA-E0DAC7257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C0B452-71F1-4EDB-B414-75E516E33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70F44-CCD3-4419-A70F-D67A07DB1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F3F642-956F-4A9A-B352-17D6AC08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5EAC54-282D-4CF6-B99E-8718F9D93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4A819D-3DCF-4DBF-B08C-595AB9C43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0CD891-0284-441F-A3F2-A8C1E850A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2AA8AC-91C0-4744-9007-222E5E59F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9C5CB5-E183-46EE-94E5-C82C4794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3A87-5AAB-45DA-BB6F-04A89EA18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81F97-F1BB-4B3E-A7F2-6DD5F5B23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CE03EF-D88D-4216-AA2C-7203004D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B3852-DDEB-45CB-9CBF-E10E6A3C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779414-B0A2-4E63-BA4E-9DC76101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F5BEC7-A97F-414F-A91D-9724B1DFD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7A9A1-5A37-4A2C-8997-58E9DF908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490AB-69DB-422F-8EEF-A665BFF86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022B32-0FB8-41CE-9F2D-BAF785FA0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27C2DE-EDAD-4159-BEBB-1F61EB84F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A202F0-E70B-4815-82DE-AE5F8B6A8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3213-12B2-4902-9C9C-038CC09A44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2473-8FC3-4BC9-A15B-1C7B5E526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51BA-68FD-4F6A-B5C2-33E8DC809E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7021E-99F3-484E-9809-75DEE438FD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E0FFA-E650-4490-B0DF-5502EAC685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B67E0-29B6-42C3-9A61-DA0B9218A48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39E9E-A255-41B2-902F-21D57015B4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AF76-68D3-49C2-BB6D-926BB9B0FC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263C7-26A6-4563-8ED2-90D7699769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8BB5-7286-46D0-BAB3-943C6C87C7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54BDC-7600-4380-922A-B683B10270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13145-BD4D-4B4D-AB08-B3353F9347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E423-39B7-4DD2-9F7E-4B18FDAF56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E99C-768F-459E-B588-61309D37C14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CEAE-7173-4AA3-96F4-ADE3ABD9E72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7A86-5C44-4E43-94E3-FEED44F0C6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1FF5-FB1D-4F44-99C4-83F649AC9E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A18D-FBE8-4D86-9517-A7BA19E552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E325-8950-40B7-AF6C-2C44854CD1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4ED0F-3A8C-48F3-8BEA-E83A314F40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D04A6-244D-4FE2-BCC0-DC95A3BA0C2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A7E0-509E-4BA4-AAD8-D31C0ABACE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BFC9B-5DCD-455B-8E9F-0CA33B12F7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E1B14-82D5-4BBC-B603-F66D8B1D01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52097-9189-4723-9F0A-D2BEC60ADD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442AE-08F3-4773-8CA4-FD321CDF86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7075-2198-435A-AC8D-BC03026F13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602CF-8B40-49FD-801C-4725D74CFC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ED716-72E4-4B92-AF7A-0C19AECDEC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69F4-653E-47DF-B69F-C5D34A14415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9D8C-1631-4031-A111-2D24280A2A5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38140-643E-475A-9020-580CEB1C97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09CAC-0E20-4E9F-9DF0-7C800F30D0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E917A-54B7-4B7F-A878-DE1D2E22B6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ADD6F-14DB-42D3-A661-7440C8B00E8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14EE-6597-4DB7-86C3-DE3DC3513F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D88B-8E17-4F58-AEE3-0569D98B86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69D9-63BF-493E-847C-15007917C2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9CC2E-D91F-4D12-99D2-B75E401CBE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2158A-8C70-4D55-BB9D-158B77FBD2A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3124080" y="3095640"/>
            <a:ext cx="289584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3" name="图片 69633" descr=""/>
          <p:cNvPicPr/>
          <p:nvPr/>
        </p:nvPicPr>
        <p:blipFill>
          <a:blip r:embed="rId1"/>
          <a:stretch/>
        </p:blipFill>
        <p:spPr>
          <a:xfrm>
            <a:off x="468360" y="3789360"/>
            <a:ext cx="8153280" cy="1962000"/>
          </a:xfrm>
          <a:prstGeom prst="rect">
            <a:avLst/>
          </a:prstGeom>
          <a:ln w="0">
            <a:noFill/>
          </a:ln>
        </p:spPr>
      </p:pic>
      <p:pic>
        <p:nvPicPr>
          <p:cNvPr id="964" name="图片 69634" descr=""/>
          <p:cNvPicPr/>
          <p:nvPr/>
        </p:nvPicPr>
        <p:blipFill>
          <a:blip r:embed="rId2"/>
          <a:stretch/>
        </p:blipFill>
        <p:spPr>
          <a:xfrm>
            <a:off x="900000" y="1413000"/>
            <a:ext cx="7305840" cy="192384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3"/>
          <a:stretch/>
        </p:blipFill>
        <p:spPr>
          <a:xfrm>
            <a:off x="4211640" y="1628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966" name="Picture 1" descr=""/>
          <p:cNvPicPr/>
          <p:nvPr/>
        </p:nvPicPr>
        <p:blipFill>
          <a:blip r:embed="rId4"/>
          <a:stretch/>
        </p:blipFill>
        <p:spPr>
          <a:xfrm>
            <a:off x="4211640" y="256536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5"/>
          <a:stretch/>
        </p:blipFill>
        <p:spPr>
          <a:xfrm>
            <a:off x="7380360" y="1700280"/>
            <a:ext cx="792000" cy="44748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6"/>
          <a:stretch/>
        </p:blipFill>
        <p:spPr>
          <a:xfrm>
            <a:off x="7394400" y="256536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7"/>
          <a:stretch/>
        </p:blipFill>
        <p:spPr>
          <a:xfrm>
            <a:off x="2268360" y="4076640"/>
            <a:ext cx="792360" cy="44784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8"/>
          <a:stretch/>
        </p:blipFill>
        <p:spPr>
          <a:xfrm>
            <a:off x="2195640" y="4941720"/>
            <a:ext cx="792000" cy="44784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1" descr=""/>
          <p:cNvPicPr/>
          <p:nvPr/>
        </p:nvPicPr>
        <p:blipFill>
          <a:blip r:embed="rId9"/>
          <a:stretch/>
        </p:blipFill>
        <p:spPr>
          <a:xfrm>
            <a:off x="5076720" y="3933720"/>
            <a:ext cx="792360" cy="7905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10"/>
          <a:stretch/>
        </p:blipFill>
        <p:spPr>
          <a:xfrm>
            <a:off x="5033880" y="4826160"/>
            <a:ext cx="792360" cy="7905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11"/>
          <a:stretch/>
        </p:blipFill>
        <p:spPr>
          <a:xfrm>
            <a:off x="7956720" y="3933720"/>
            <a:ext cx="792000" cy="7905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12"/>
          <a:stretch/>
        </p:blipFill>
        <p:spPr>
          <a:xfrm>
            <a:off x="7970760" y="4970520"/>
            <a:ext cx="79236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7" dur="10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2" dur="10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1000"/>
                                        <p:tgtEl>
                                          <p:spTgt spid="9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10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10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890640" y="762120"/>
            <a:ext cx="7362720" cy="53337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547640" y="4076640"/>
            <a:ext cx="2519640" cy="9367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1476360" y="5084640"/>
            <a:ext cx="2519280" cy="936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506920" y="4076640"/>
            <a:ext cx="2519640" cy="9367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5435640" y="5084640"/>
            <a:ext cx="251928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7" name="图片 59410" descr=""/>
          <p:cNvPicPr/>
          <p:nvPr/>
        </p:nvPicPr>
        <p:blipFill>
          <a:blip r:embed="rId1"/>
          <a:stretch/>
        </p:blipFill>
        <p:spPr>
          <a:xfrm>
            <a:off x="1300320" y="1833480"/>
            <a:ext cx="6543360" cy="319104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2"/>
          <a:stretch/>
        </p:blipFill>
        <p:spPr>
          <a:xfrm>
            <a:off x="1258920" y="3052800"/>
            <a:ext cx="2808360" cy="95256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3"/>
          <a:stretch/>
        </p:blipFill>
        <p:spPr>
          <a:xfrm>
            <a:off x="1258920" y="4149720"/>
            <a:ext cx="2808360" cy="9525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4"/>
          <a:stretch/>
        </p:blipFill>
        <p:spPr>
          <a:xfrm>
            <a:off x="5076720" y="2979720"/>
            <a:ext cx="2808360" cy="952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5"/>
          <a:stretch/>
        </p:blipFill>
        <p:spPr>
          <a:xfrm>
            <a:off x="5076720" y="4076640"/>
            <a:ext cx="280836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905040" y="1238400"/>
            <a:ext cx="7333920" cy="438120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826920" y="2492280"/>
            <a:ext cx="3600720" cy="93672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684360" y="3573360"/>
            <a:ext cx="3600360" cy="9367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755640" y="4724280"/>
            <a:ext cx="3600360" cy="9367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4714920" y="2419200"/>
            <a:ext cx="3600360" cy="93672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4572000" y="3500280"/>
            <a:ext cx="3600360" cy="9367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7"/>
          <a:stretch/>
        </p:blipFill>
        <p:spPr>
          <a:xfrm>
            <a:off x="4643280" y="4651200"/>
            <a:ext cx="3600720" cy="9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9" name="图片 57352" descr=""/>
          <p:cNvPicPr/>
          <p:nvPr/>
        </p:nvPicPr>
        <p:blipFill>
          <a:blip r:embed="rId1"/>
          <a:stretch/>
        </p:blipFill>
        <p:spPr>
          <a:xfrm>
            <a:off x="309600" y="1681200"/>
            <a:ext cx="8524800" cy="34956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2"/>
          <a:stretch/>
        </p:blipFill>
        <p:spPr>
          <a:xfrm>
            <a:off x="1476360" y="3629160"/>
            <a:ext cx="4319640" cy="95220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3"/>
          <a:stretch/>
        </p:blipFill>
        <p:spPr>
          <a:xfrm>
            <a:off x="1476360" y="4724280"/>
            <a:ext cx="4319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619200" y="852480"/>
            <a:ext cx="7905600" cy="51530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1403280" y="2693880"/>
            <a:ext cx="3600360" cy="8794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1258920" y="3832200"/>
            <a:ext cx="3600360" cy="8794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1187280" y="4869000"/>
            <a:ext cx="3600720" cy="576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5"/>
          <a:stretch/>
        </p:blipFill>
        <p:spPr>
          <a:xfrm>
            <a:off x="1258920" y="5445000"/>
            <a:ext cx="3600360" cy="5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5301" descr=""/>
          <p:cNvPicPr/>
          <p:nvPr/>
        </p:nvPicPr>
        <p:blipFill>
          <a:blip r:embed="rId1"/>
          <a:stretch/>
        </p:blipFill>
        <p:spPr>
          <a:xfrm>
            <a:off x="547560" y="285840"/>
            <a:ext cx="8048880" cy="628632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1476360" y="2708280"/>
            <a:ext cx="4319640" cy="93672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1116000" y="3789360"/>
            <a:ext cx="4319640" cy="9367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1187280" y="4811760"/>
            <a:ext cx="4319640" cy="5619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1042920" y="5445000"/>
            <a:ext cx="4319640" cy="5619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1042920" y="6093000"/>
            <a:ext cx="6769080" cy="5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328680" y="49320"/>
            <a:ext cx="8275680" cy="67611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2"/>
          <a:stretch/>
        </p:blipFill>
        <p:spPr>
          <a:xfrm>
            <a:off x="1692360" y="2765520"/>
            <a:ext cx="3095640" cy="8794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3"/>
          <a:stretch/>
        </p:blipFill>
        <p:spPr>
          <a:xfrm>
            <a:off x="1547640" y="3789360"/>
            <a:ext cx="3095640" cy="87948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4"/>
          <a:stretch/>
        </p:blipFill>
        <p:spPr>
          <a:xfrm>
            <a:off x="1547640" y="4869000"/>
            <a:ext cx="3095640" cy="87948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5"/>
          <a:stretch/>
        </p:blipFill>
        <p:spPr>
          <a:xfrm>
            <a:off x="1403280" y="5950080"/>
            <a:ext cx="4608720" cy="8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52231" descr=""/>
          <p:cNvPicPr/>
          <p:nvPr/>
        </p:nvPicPr>
        <p:blipFill>
          <a:blip r:embed="rId1"/>
          <a:stretch/>
        </p:blipFill>
        <p:spPr>
          <a:xfrm>
            <a:off x="662040" y="1062000"/>
            <a:ext cx="7819920" cy="47340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1332000" y="2421000"/>
            <a:ext cx="3527280" cy="9367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1116000" y="3500280"/>
            <a:ext cx="3527280" cy="9367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1187280" y="4581360"/>
            <a:ext cx="3527640" cy="50328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1042920" y="5200560"/>
            <a:ext cx="7201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22T00:56:37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